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F542-18DD-4B5B-BC1A-F03738F6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1496-377D-4176-86A9-34BDA98A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AC4-497D-4D0A-A5B1-4D5678D5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D39E-2F7B-4622-9178-D66B3D12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8CE-CEFB-4E0C-9F97-B99BC97F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1EBA-202B-4D27-9E39-31BBA5D3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D135-881C-454C-B9B3-DB053964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DAF-CD70-4563-BD58-9506AA19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4E9-BB1B-4FB3-B1D4-66098A57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5CE-BED1-46E5-8792-74531148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8473-E384-4A65-89D2-AA990790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116F-B8C8-4AE0-AA5E-CFC14DE8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DD60-AEEA-4CEC-8E87-5AADE0BE0CD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OM ROOSEVELT TO WILSON “AGE OF PROGRESSIVISM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523880" y="3657600"/>
            <a:ext cx="6019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pirit of Progressiv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440" y="19047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essivism not a coherent movement but shared some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xample: Concern about effects of industrializ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ormers abandoned individualized reform to address larger structural 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jected Social Darwinism and focused on pragmatism (William Jam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gressive reform leaders elected in local/state/federal (Wisconsin Idea-La Follette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used on the people, politics, and economy (Initiative, referendum, and recal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used on “purity” within society (ex: prohibi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 of Amendmen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560" y="1752480"/>
            <a:ext cx="4190760" cy="490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13: Sixteenth Amendment created income ta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13: Seventeenth Amendment provided for direct election of U.S. sen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20: Eighteenth Amendment prohibits alcohol (crusade against vic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20: Nineteenth Amendment passed (women suffrag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DIVI7233490"/>
          <p:cNvPicPr/>
          <p:nvPr/>
        </p:nvPicPr>
        <p:blipFill>
          <a:blip r:embed="rId2"/>
          <a:stretch/>
        </p:blipFill>
        <p:spPr>
          <a:xfrm>
            <a:off x="4495680" y="1828800"/>
            <a:ext cx="435456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publican Teddy Rooseve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ten defied convention and brought an exuberance to the presidenc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ust regulator not “trust-buster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Creation of the Food and Drug Act (FD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lieved in his “Square Deal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Hepburn Act-strengthened Interstate Commerce Act (IC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rst comprehensive national conservation poli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Republican William Howard Taf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ught a more Conservative feel toward Republicans but was still a progressive Presid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ft lost support of Progress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09 Payne-Aldrich Act – lowered tariffs but not enough according to progressives in his party (divided par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llinger-Pinchot Affair – selling of conservation 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ill lead to Bull Moose Party/New Nationalism and a resurgence of progressivism (election of 191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IVI7233502"/>
          <p:cNvPicPr/>
          <p:nvPr/>
        </p:nvPicPr>
        <p:blipFill>
          <a:blip r:embed="rId2"/>
          <a:stretch/>
        </p:blipFill>
        <p:spPr>
          <a:xfrm>
            <a:off x="2209680" y="457200"/>
            <a:ext cx="4829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ts Woodrow Wilson'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520" y="13716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America's most effective presid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Freedo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13: Underwood Tariff cut du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13: Federal Reserve Act reformed banks, established stable curre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14: Clayton Antitrust Act outlawed directories and unfair trade practices, protected un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14: Federal Trade Commission (oversee business methods and allow for competitio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ins to adopt more policies from Roosevelt’s New Nationalism which gave stronger control to government  and re-election in 19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ruits of the Progressiv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orm of government at all leve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lligent planning of re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ld War I ends Progressive optim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5:30:57Z</dcterms:created>
  <dc:creator>HstM3</dc:creator>
  <dc:description/>
  <cp:keywords/>
  <dc:language>en-US</dc:language>
  <cp:lastModifiedBy>Thaddeus J. Brooks</cp:lastModifiedBy>
  <cp:lastPrinted>2008-10-28T12:28:58Z</cp:lastPrinted>
  <dcterms:modified xsi:type="dcterms:W3CDTF">2013-10-28T14:16:11Z</dcterms:modified>
  <cp:revision>27</cp:revision>
  <dc:subject/>
  <dc:title>FROM ROOSEVELT TO WILSON IN THE AGE OF PROGRESSIVISM</dc:title>
</cp:coreProperties>
</file>